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596-889B-4A92-9C4E-B85CAEAE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136-6A13-4F30-A26D-EF39AAB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822-C91C-479B-B9E3-D91104BA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B5A-42B4-4FCF-AEDA-B25F11A9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506-7836-4CE8-9A8A-5CBCE5E7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884-246C-46B7-A152-CA7CB47D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351-8962-4535-A266-FFB2047B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380-B1CB-4785-83DD-2328F019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9B5-A49E-4794-BDE2-FC2307E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F3C-11D1-4E20-9654-069AA61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CCE-3E60-4A78-A5DE-FFB358C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3B5-8EC7-431D-BD5A-0C5CF1F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349D7-472B-418E-9C9D-4522F169E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84FA4-5748-4A08-A41D-BF65AABB7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03440" y="0"/>
            <a:ext cx="4498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Complete the following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inch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yar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5 minute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.5 hour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5 gallons to quar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40 weeks to day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3 years to ho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 ton to ou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584680" y="274680"/>
            <a:ext cx="292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CONVERS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2 inches (in) = 1 foot (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 feet (ft) = 1 yard (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gallon (gal) = 4 quarts (q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pound (lb) = 16 ounces (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ton = 2000 pounds (l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65 days = 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7 days = 1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24 hours = 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60 minutes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03440" y="0"/>
            <a:ext cx="449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Complete the following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inch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4 feet to yar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5 minute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2.5 hours to second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5 gallons to quar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40 weeks to day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3 years to ho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584680" y="184320"/>
            <a:ext cx="292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CONVERS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2 inches (in) = 1 foot (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 feet (ft) = 1 yard (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gallon (gal) = 4 quarts (q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pound (lb) = 16 ounces (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1 ton = 2000 pounds (l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365 days = 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7 days = 1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24 hours = 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alibri"/>
              </a:rPr>
              <a:t>60 minutes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46040" y="860400"/>
                <a:ext cx="2136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70160" y="1682640"/>
                <a:ext cx="185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0160" y="2536920"/>
                <a:ext cx="2997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nt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scnd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n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sc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41360" y="3306600"/>
                <a:ext cx="38908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hr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nt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scnd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n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sc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8120" y="4130640"/>
                <a:ext cx="188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gal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q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46040" y="5002200"/>
                <a:ext cx="25671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rPr>
                        <m:lit/>
                        <m:nor/>
                      </m:rPr>
                      <m:t xml:space="preserve">wks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wk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rPr>
                        <m:lit/>
                        <m:nor/>
                      </m:rPr>
                      <m:t xml:space="preserve">day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370160" y="5780160"/>
                <a:ext cx="3500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yrs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yr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Box 11"/>
          <p:cNvSpPr/>
          <p:nvPr/>
        </p:nvSpPr>
        <p:spPr>
          <a:xfrm>
            <a:off x="5502240" y="5370480"/>
            <a:ext cx="334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Calibri"/>
              <a:buAutoNum type="arabicPeriod" startAt="8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1 ton to ou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Calibri"/>
              <a:buAutoNum type="arabicPeriod" startAt="8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616720" y="5845320"/>
                <a:ext cx="32274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ton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lb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o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o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1:34:56Z</dcterms:created>
  <dc:creator>Salem High School</dc:creator>
  <dc:description/>
  <dc:language>en-US</dc:language>
  <cp:lastModifiedBy>Salem High School</cp:lastModifiedBy>
  <dcterms:modified xsi:type="dcterms:W3CDTF">2011-10-20T13:36:13Z</dcterms:modified>
  <cp:revision>8</cp:revision>
  <dc:subject/>
  <dc:title>Slide 1</dc:title>
</cp:coreProperties>
</file>